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876-C925-4B37-B40E-C0D5CF08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7EE-5440-45EA-9819-643FDD84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90E-A1BB-41E0-8217-779437A5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909-17D3-4694-B9B9-97EF1230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D4F-19A0-4FCF-90E5-E51FAAB3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B1D-5118-4068-9790-8499DC76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94B-C16C-4C0E-91D2-382696F3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D75-9DA8-4434-92A3-7063A5FF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798-C5F2-4794-88AA-85A6FD2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C96-5AEB-4E60-B676-97CC341A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F61-6E66-4BA9-9226-318BB73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60F-DDB0-4811-A7F6-14B1A759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8675-DC10-4F48-AC44-B067F570C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alysis Option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12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705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133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924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92468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1371600"/>
            <a:ext cx="7162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Another Analysis 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7162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724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407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16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14400" y="2768760"/>
            <a:ext cx="7162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467480" cy="117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1174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312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92468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19920" y="5486400"/>
            <a:ext cx="2006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924680" cy="30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924680" cy="365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781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4:24:34Z</dcterms:modified>
  <cp:revision>43</cp:revision>
  <dc:subject/>
  <dc:title>PowerPoint Presentation</dc:title>
</cp:coreProperties>
</file>